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5.png" ContentType="image/png"/>
  <Override PartName="/ppt/media/image7.pct" ContentType="image/x-pict"/>
  <Override PartName="/ppt/media/image14.png" ContentType="image/png"/>
  <Override PartName="/ppt/media/image6.pct" ContentType="image/x-pict"/>
  <Override PartName="/ppt/media/image9.png" ContentType="image/png"/>
  <Override PartName="/ppt/media/image1.pct" ContentType="image/x-pict"/>
  <Override PartName="/ppt/media/image4.png" ContentType="image/png"/>
  <Override PartName="/ppt/media/image8.jpeg" ContentType="image/jpeg"/>
  <Override PartName="/ppt/media/image2.pct" ContentType="image/x-pict"/>
  <Override PartName="/ppt/media/image10.png" ContentType="image/png"/>
  <Override PartName="/ppt/media/image3.png" ContentType="image/png"/>
  <Override PartName="/ppt/media/image5.pct" ContentType="image/x-pict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C954-0BCA-46A1-B951-8CE6CD81F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90600" y="797040"/>
            <a:ext cx="4276800" cy="32065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"/>
              </a:rPr>
              <a:t>In a recent study looking at document use by knowledge workers, Kidd found that the </a:t>
            </a:r>
            <a:r>
              <a:rPr b="0" i="1" lang="en-GB" sz="1200" spc="-1" strike="noStrike">
                <a:solidFill>
                  <a:srgbClr val="000000"/>
                </a:solidFill>
                <a:latin typeface="Palatino"/>
              </a:rPr>
              <a:t>process of articulating and refining work products</a:t>
            </a:r>
            <a:r>
              <a:rPr b="0" lang="en-GB" sz="1200" spc="-1" strike="noStrike">
                <a:solidFill>
                  <a:srgbClr val="000000"/>
                </a:solidFill>
                <a:latin typeface="Palatino"/>
              </a:rPr>
              <a:t> was often more important for informing practitioners than the products themselves (Kidd 1994). In a broader context, Brown and Duguid contrast two basic models of document use: ‘documents as darts’ where documents serve as a means of objectively transmitting knowledge and ‘documents as a means for supporting social processes’ (Brown and Duguid 1996). They argue that </a:t>
            </a:r>
            <a:r>
              <a:rPr b="0" i="1" lang="en-GB" sz="1200" spc="-1" strike="noStrike">
                <a:solidFill>
                  <a:srgbClr val="000000"/>
                </a:solidFill>
                <a:latin typeface="Palatino"/>
              </a:rPr>
              <a:t>a key role of documents is to support negotiation and interpretation as communities struggle to reach a shared understanding</a:t>
            </a:r>
            <a:r>
              <a:rPr b="0" lang="en-GB" sz="1200" spc="-1" strike="noStrike">
                <a:solidFill>
                  <a:srgbClr val="000000"/>
                </a:solidFill>
                <a:latin typeface="Palatino"/>
              </a:rPr>
              <a:t>. Likewise, several leaders in collaborative working and learning have argued for a re-thinking of the status of ‘representations of work’ (Bannon 1995; Suchman 1995). They argue that rather than regarding these work products as static accounts or descriptions of the way things are, </a:t>
            </a:r>
            <a:r>
              <a:rPr b="0" i="1" lang="en-GB" sz="1200" spc="-1" strike="noStrike">
                <a:solidFill>
                  <a:srgbClr val="000000"/>
                </a:solidFill>
                <a:latin typeface="Palatino"/>
              </a:rPr>
              <a:t>representations should be regarded as starting points for discussion about the way things ought to be</a:t>
            </a:r>
            <a:r>
              <a:rPr b="0" lang="en-GB" sz="1200" spc="-1" strike="noStrike">
                <a:solidFill>
                  <a:srgbClr val="000000"/>
                </a:solidFill>
                <a:latin typeface="Palatino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680" y="3952080"/>
            <a:ext cx="799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640" y="15238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71680" y="39520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0640" y="39520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2575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76360" y="1523880"/>
            <a:ext cx="2575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1040" y="1523880"/>
            <a:ext cx="2575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680" y="3952080"/>
            <a:ext cx="2575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76360" y="3952080"/>
            <a:ext cx="2575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1040" y="3952080"/>
            <a:ext cx="2575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3903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0640" y="1523880"/>
            <a:ext cx="3903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640" y="1523880"/>
            <a:ext cx="3903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71680" y="39520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3903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15238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0640" y="39520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15238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680" y="3952080"/>
            <a:ext cx="799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15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3" marL="1600200" indent="-228600">
              <a:spcBef>
                <a:spcPts val="15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4" marL="2057400" indent="-228600">
              <a:spcBef>
                <a:spcPts val="1500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5" marL="2057400" indent="-228600">
              <a:spcBef>
                <a:spcPts val="1500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6" marL="2057400" indent="-228600">
              <a:spcBef>
                <a:spcPts val="1500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6.pct"/><Relationship Id="rId3" Type="http://schemas.openxmlformats.org/officeDocument/2006/relationships/image" Target="../media/image6.pct"/><Relationship Id="rId4" Type="http://schemas.openxmlformats.org/officeDocument/2006/relationships/image" Target="../media/image6.pct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pct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abling Knowledge Creation and Sharing on the Web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rico Mott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nowledge Media Institute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Open University, U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cument-Centred Knowledge Work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ocument-centred knowledge work is ubiquitou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eaching tends to be textbook-centred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Organizational work-practices are typically document-centred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But..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Documents are big, there are lots of them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Knowledge retrieval is inefficient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hey are a poor medium to support automated intelligent services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Do not normally explicitly embed the meta-knowledge required to interpret and use them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pproach: ‘Enriched Documents’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nriching by integration with </a:t>
            </a: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discussion spaces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D3E environment - </a:t>
            </a:r>
            <a:r>
              <a:rPr b="0" i="1" lang="en-GB" sz="1800" spc="-1" strike="noStrike">
                <a:solidFill>
                  <a:srgbClr val="ffff00"/>
                </a:solidFill>
                <a:latin typeface="Comic Sans MS"/>
              </a:rPr>
              <a:t>Simon Buckingham Shum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Support for interpretation and knowledge sharing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nriching by integration with </a:t>
            </a: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ontology-based formal model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Support for semantic retrieval, knowledge discovery, collaborative model building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nriching by integration with </a:t>
            </a: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knowledge services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e.g., textbook on dynamic systems augmented with discussion spaces, ontologies and on-line simulator (http://rich-odl.open.ac.uk; </a:t>
            </a:r>
            <a:r>
              <a:rPr b="0" i="1" lang="en-GB" sz="2000" spc="-1" strike="noStrike">
                <a:solidFill>
                  <a:srgbClr val="ffff00"/>
                </a:solidFill>
                <a:latin typeface="Comic Sans MS"/>
              </a:rPr>
              <a:t>Zdenek Zdrahal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74720" y="139680"/>
            <a:ext cx="7594560" cy="65786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5969160" y="254160"/>
            <a:ext cx="1369440" cy="523800"/>
            <a:chOff x="5969160" y="254160"/>
            <a:chExt cx="1369440" cy="523800"/>
          </a:xfrm>
        </p:grpSpPr>
        <p:sp>
          <p:nvSpPr>
            <p:cNvPr id="119" name=""/>
            <p:cNvSpPr/>
            <p:nvPr/>
          </p:nvSpPr>
          <p:spPr>
            <a:xfrm>
              <a:off x="6018120" y="254160"/>
              <a:ext cx="1270080" cy="523800"/>
            </a:xfrm>
            <a:prstGeom prst="horizontalScrol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69160" y="311040"/>
              <a:ext cx="13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Comic Sans MS"/>
                </a:rPr>
                <a:t>Document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>
            <a:off x="4792320" y="744480"/>
            <a:ext cx="1336680" cy="12193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96360" y="2471760"/>
            <a:ext cx="1269720" cy="11332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34080" y="267336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Comic Sans MS"/>
              </a:rPr>
              <a:t>Discussion</a:t>
            </a:r>
            <a:br>
              <a:rPr sz="1800"/>
            </a:br>
            <a:r>
              <a:rPr b="1" lang="en-GB" sz="1800" spc="-1" strike="noStrike">
                <a:solidFill>
                  <a:srgbClr val="0000cc"/>
                </a:solidFill>
                <a:latin typeface="Comic Sans MS"/>
              </a:rPr>
              <a:t>Threa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224480" y="3487680"/>
            <a:ext cx="928440" cy="8445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82880" y="390600"/>
            <a:ext cx="1293480" cy="523800"/>
            <a:chOff x="1082880" y="390600"/>
            <a:chExt cx="1293480" cy="523800"/>
          </a:xfrm>
        </p:grpSpPr>
        <p:sp>
          <p:nvSpPr>
            <p:cNvPr id="126" name=""/>
            <p:cNvSpPr/>
            <p:nvPr/>
          </p:nvSpPr>
          <p:spPr>
            <a:xfrm>
              <a:off x="1106640" y="390600"/>
              <a:ext cx="1269720" cy="523800"/>
            </a:xfrm>
            <a:prstGeom prst="horizontalScrol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82880" y="4474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Comic Sans MS"/>
                </a:rPr>
                <a:t>Content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676520" y="846000"/>
            <a:ext cx="17280" cy="1708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746280" y="150840"/>
          <a:ext cx="7648560" cy="66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150840"/>
                    <a:ext cx="7648560" cy="66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Features of the Approach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ocuments enriched with multiple interpretation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race of the lineage of idea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ocus for knowledge sharing and organizational learning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Comic Sans MS"/>
              </a:rPr>
              <a:t>Perspective Taking.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 Learning and interpretation through making </a:t>
            </a:r>
            <a:r>
              <a:rPr b="0" i="1" lang="en-GB" sz="2000" spc="-1" strike="noStrike">
                <a:solidFill>
                  <a:srgbClr val="ffff00"/>
                </a:solidFill>
                <a:latin typeface="Comic Sans MS"/>
              </a:rPr>
              <a:t>conceptual cues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explici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6360" y="40608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Ontology-Driven Document Enrichmen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111640" y="1276200"/>
            <a:ext cx="3794040" cy="1574640"/>
            <a:chOff x="5111640" y="1276200"/>
            <a:chExt cx="3794040" cy="1574640"/>
          </a:xfrm>
        </p:grpSpPr>
        <p:sp>
          <p:nvSpPr>
            <p:cNvPr id="135" name=""/>
            <p:cNvSpPr/>
            <p:nvPr/>
          </p:nvSpPr>
          <p:spPr>
            <a:xfrm>
              <a:off x="6570720" y="1276200"/>
              <a:ext cx="62100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6320" y="1931400"/>
              <a:ext cx="61956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42880" y="1952280"/>
              <a:ext cx="61992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21120" y="1931400"/>
              <a:ext cx="61992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308280" y="1562040"/>
              <a:ext cx="449640" cy="389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6916320" y="1562400"/>
              <a:ext cx="115200" cy="383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7082640" y="1539360"/>
              <a:ext cx="618480" cy="406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04720" y="2552040"/>
              <a:ext cx="61956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11640" y="2572920"/>
              <a:ext cx="61992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89520" y="2552040"/>
              <a:ext cx="61992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86120" y="2526480"/>
              <a:ext cx="61956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93040" y="2547360"/>
              <a:ext cx="61992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564160" y="2208240"/>
              <a:ext cx="537120" cy="352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220800" y="2282760"/>
              <a:ext cx="53280" cy="265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952320" y="2208240"/>
              <a:ext cx="127800" cy="376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832520" y="2220120"/>
              <a:ext cx="16200" cy="315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8072280" y="2194560"/>
              <a:ext cx="540720" cy="339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rot="5400000">
            <a:off x="3725280" y="865080"/>
            <a:ext cx="627120" cy="1963800"/>
          </a:xfrm>
          <a:prstGeom prst="upArrow">
            <a:avLst>
              <a:gd name="adj1" fmla="val 50000"/>
              <a:gd name="adj2" fmla="val 7828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71440" y="5757840"/>
            <a:ext cx="4353120" cy="863640"/>
            <a:chOff x="271440" y="5757840"/>
            <a:chExt cx="4353120" cy="86364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271440" y="5757840"/>
              <a:ext cx="115272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338120" y="5757840"/>
              <a:ext cx="115272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2405160" y="5757840"/>
              <a:ext cx="115236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471840" y="5757840"/>
              <a:ext cx="11527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1033920" y="149076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Viewpoi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57280" y="2355840"/>
            <a:ext cx="876240" cy="3216240"/>
            <a:chOff x="1457280" y="2355840"/>
            <a:chExt cx="876240" cy="3216240"/>
          </a:xfrm>
        </p:grpSpPr>
        <p:graphicFrame>
          <p:nvGraphicFramePr>
            <p:cNvPr id="160" name=""/>
            <p:cNvGraphicFramePr/>
            <p:nvPr/>
          </p:nvGraphicFramePr>
          <p:xfrm>
            <a:off x="1457280" y="3506760"/>
            <a:ext cx="876240" cy="1200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57280" y="3506760"/>
                      <a:ext cx="876240" cy="120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1541520" y="4776840"/>
              <a:ext cx="627120" cy="795240"/>
            </a:xfrm>
            <a:prstGeom prst="upArrow">
              <a:avLst>
                <a:gd name="adj1" fmla="val 50000"/>
                <a:gd name="adj2" fmla="val 31702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41520" y="2355840"/>
              <a:ext cx="627120" cy="828720"/>
            </a:xfrm>
            <a:prstGeom prst="upArrow">
              <a:avLst>
                <a:gd name="adj1" fmla="val 50000"/>
                <a:gd name="adj2" fmla="val 33037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024520" y="2862360"/>
            <a:ext cx="3832200" cy="2813040"/>
            <a:chOff x="5024520" y="2862360"/>
            <a:chExt cx="3832200" cy="2813040"/>
          </a:xfrm>
        </p:grpSpPr>
        <p:sp>
          <p:nvSpPr>
            <p:cNvPr id="165" name=""/>
            <p:cNvSpPr/>
            <p:nvPr/>
          </p:nvSpPr>
          <p:spPr>
            <a:xfrm>
              <a:off x="5151600" y="3798720"/>
              <a:ext cx="1117440" cy="338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97560" y="3789360"/>
              <a:ext cx="1117800" cy="338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50000" y="3781440"/>
              <a:ext cx="1117800" cy="338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5024520" y="4840200"/>
              <a:ext cx="63180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8"/>
            <a:stretch/>
          </p:blipFill>
          <p:spPr>
            <a:xfrm>
              <a:off x="6091200" y="4840200"/>
              <a:ext cx="63180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9"/>
            <a:stretch/>
          </p:blipFill>
          <p:spPr>
            <a:xfrm>
              <a:off x="7157880" y="4840200"/>
              <a:ext cx="63216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0"/>
            <a:stretch/>
          </p:blipFill>
          <p:spPr>
            <a:xfrm>
              <a:off x="8224920" y="4840200"/>
              <a:ext cx="6318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flipV="1">
              <a:off x="5672160" y="2879280"/>
              <a:ext cx="509400" cy="86220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942240" y="2879640"/>
              <a:ext cx="34920" cy="828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7924680" y="2862360"/>
              <a:ext cx="287280" cy="84600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468760" y="4132080"/>
              <a:ext cx="219240" cy="609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874840" y="4165560"/>
              <a:ext cx="507960" cy="627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958080" y="4151160"/>
              <a:ext cx="560160" cy="625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8280000" y="4121280"/>
              <a:ext cx="322200" cy="674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22440" y="37623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Instanc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66960" y="375444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Instanc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19400" y="374508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Instanc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ganizational Learning Basis/Goal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omain construction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Learning through the collaborative construction of shared model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 (Fischer) lifecycl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Seed/Evolutionary Growth/Re-seed</a:t>
            </a: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flection-in-action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Integration of working and learning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Perspective taking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Learning and interpretation through making </a:t>
            </a:r>
            <a:r>
              <a:rPr b="0" i="1" lang="en-GB" sz="2000" spc="-1" strike="noStrike">
                <a:solidFill>
                  <a:srgbClr val="ffff00"/>
                </a:solidFill>
                <a:latin typeface="Comic Sans MS"/>
              </a:rPr>
              <a:t>conceptual cues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explici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20760" y="4165560"/>
            <a:ext cx="851832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ere/With Whom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omain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lectronic News Publishing, Medical Guidelines, Fault log management, Helpdesk support, ‘Best Practice’ Repositories, Engineering Design, Coursewa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sers/Partner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British Aerospace, German Coal Mining Industry, Siemens, UK’s University for Industry, BP-Amoco, The Open University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odelling Suppor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OCML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  “Operational Ontolingua”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Ontology Library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  Extensive library of ontologi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WebOnto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  Web-based Editor/Browser for Ontologies, Knowledge Model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Lois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  Ontology-Driven Query Interfac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Knote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  Ontology-Driven KA Too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D3E/CEDAR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  Technology for supporting document-centred discourse and debat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erspectives on the Web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04920" y="3924360"/>
            <a:ext cx="7941960" cy="1033560"/>
            <a:chOff x="304920" y="3924360"/>
            <a:chExt cx="7941960" cy="1033560"/>
          </a:xfrm>
        </p:grpSpPr>
        <p:sp>
          <p:nvSpPr>
            <p:cNvPr id="49" name=""/>
            <p:cNvSpPr/>
            <p:nvPr/>
          </p:nvSpPr>
          <p:spPr>
            <a:xfrm>
              <a:off x="4381560" y="4064040"/>
              <a:ext cx="838080" cy="457200"/>
            </a:xfrm>
            <a:custGeom>
              <a:avLst/>
              <a:gdLst>
                <a:gd name="textAreaLeft" fmla="*/ 130680 w 838080"/>
                <a:gd name="textAreaRight" fmla="*/ 733320 w 83808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12960" y="3924360"/>
              <a:ext cx="28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Comic Sans MS"/>
                </a:rPr>
                <a:t>Semantic Retrieval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3983040"/>
              <a:ext cx="440676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buClr>
                  <a:srgbClr val="ffff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Comic Sans MS"/>
                </a:rPr>
                <a:t>The Semantic We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Comic Sans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00"/>
                  </a:solidFill>
                  <a:latin typeface="Comic Sans MS"/>
                </a:rPr>
                <a:t>Semantic Models/Ontologie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04920" y="5245200"/>
            <a:ext cx="8187840" cy="1191240"/>
            <a:chOff x="304920" y="5245200"/>
            <a:chExt cx="8187840" cy="1191240"/>
          </a:xfrm>
        </p:grpSpPr>
        <p:sp>
          <p:nvSpPr>
            <p:cNvPr id="53" name=""/>
            <p:cNvSpPr/>
            <p:nvPr/>
          </p:nvSpPr>
          <p:spPr>
            <a:xfrm>
              <a:off x="4381560" y="5346720"/>
              <a:ext cx="838080" cy="457200"/>
            </a:xfrm>
            <a:custGeom>
              <a:avLst/>
              <a:gdLst>
                <a:gd name="textAreaLeft" fmla="*/ 130680 w 838080"/>
                <a:gd name="textAreaRight" fmla="*/ 733320 w 83808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29440" y="5245200"/>
              <a:ext cx="3163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Comic Sans MS"/>
                </a:rPr>
                <a:t>Intepretation,</a:t>
              </a:r>
              <a:br>
                <a:rPr sz="2400"/>
              </a:br>
              <a:r>
                <a:rPr b="0" lang="en-GB" sz="2400" spc="-1" strike="noStrike">
                  <a:solidFill>
                    <a:srgbClr val="ffff00"/>
                  </a:solidFill>
                  <a:latin typeface="Comic Sans MS"/>
                </a:rPr>
                <a:t>Knowledge Creation </a:t>
              </a:r>
              <a:br>
                <a:rPr sz="2400"/>
              </a:br>
              <a:r>
                <a:rPr b="0" lang="en-GB" sz="2400" spc="-1" strike="noStrike">
                  <a:solidFill>
                    <a:srgbClr val="ffff00"/>
                  </a:solidFill>
                  <a:latin typeface="Comic Sans MS"/>
                </a:rPr>
                <a:t>and Sharing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5337000"/>
              <a:ext cx="440676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buClr>
                  <a:srgbClr val="ffff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Comic Sans MS"/>
                </a:rPr>
                <a:t>The Knowledge We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Comic Sans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00"/>
                  </a:solidFill>
                  <a:latin typeface="Comic Sans MS"/>
                </a:rPr>
                <a:t>Services/Agent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04920" y="1579680"/>
            <a:ext cx="8799120" cy="2176200"/>
            <a:chOff x="304920" y="1579680"/>
            <a:chExt cx="8799120" cy="2176200"/>
          </a:xfrm>
        </p:grpSpPr>
        <p:grpSp>
          <p:nvGrpSpPr>
            <p:cNvPr id="57" name=""/>
            <p:cNvGrpSpPr/>
            <p:nvPr/>
          </p:nvGrpSpPr>
          <p:grpSpPr>
            <a:xfrm>
              <a:off x="304920" y="2781360"/>
              <a:ext cx="8799120" cy="974520"/>
              <a:chOff x="304920" y="2781360"/>
              <a:chExt cx="8799120" cy="974520"/>
            </a:xfrm>
          </p:grpSpPr>
          <p:sp>
            <p:nvSpPr>
              <p:cNvPr id="58" name=""/>
              <p:cNvSpPr/>
              <p:nvPr/>
            </p:nvSpPr>
            <p:spPr>
              <a:xfrm>
                <a:off x="4381560" y="2971800"/>
                <a:ext cx="838080" cy="457200"/>
              </a:xfrm>
              <a:custGeom>
                <a:avLst/>
                <a:gdLst>
                  <a:gd name="textAreaLeft" fmla="*/ 130680 w 838080"/>
                  <a:gd name="textAreaRight" fmla="*/ 733320 w 83808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418000" y="2971800"/>
                <a:ext cx="368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Comic Sans MS"/>
                  </a:rPr>
                  <a:t>Data Exchange/Retrieval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04920" y="2781360"/>
                <a:ext cx="4406760" cy="9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2401"/>
                  </a:spcBef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Comic Sans MS"/>
                  </a:rPr>
                  <a:t>The Database We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ffff00"/>
                  </a:buClr>
                  <a:buFont typeface="Comic Sans MS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Comic Sans MS"/>
                  </a:rPr>
                  <a:t>Structured Data/XML</a:t>
                </a:r>
                <a:endParaRPr b="0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317520" y="1579680"/>
              <a:ext cx="8769600" cy="974520"/>
              <a:chOff x="317520" y="1579680"/>
              <a:chExt cx="8769600" cy="974520"/>
            </a:xfrm>
          </p:grpSpPr>
          <p:sp>
            <p:nvSpPr>
              <p:cNvPr id="62" name=""/>
              <p:cNvSpPr/>
              <p:nvPr/>
            </p:nvSpPr>
            <p:spPr>
              <a:xfrm>
                <a:off x="4381560" y="1770120"/>
                <a:ext cx="838080" cy="457200"/>
              </a:xfrm>
              <a:custGeom>
                <a:avLst/>
                <a:gdLst>
                  <a:gd name="textAreaLeft" fmla="*/ 130680 w 838080"/>
                  <a:gd name="textAreaRight" fmla="*/ 733320 w 83808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422680" y="1770120"/>
                <a:ext cx="366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Comic Sans MS"/>
                  </a:rPr>
                  <a:t>Browsing/Lexical Search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7520" y="1579680"/>
                <a:ext cx="4729320" cy="9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2000"/>
              </a:bodyPr>
              <a:p>
                <a:pPr marL="315360" indent="-315360">
                  <a:lnSpc>
                    <a:spcPct val="100000"/>
                  </a:lnSpc>
                  <a:spcBef>
                    <a:spcPts val="2401"/>
                  </a:spcBef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Comic Sans MS"/>
                  </a:rPr>
                  <a:t>The Hypertext We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  <a:p>
                <a:pPr lvl="1" marL="683280" indent="-262800">
                  <a:lnSpc>
                    <a:spcPct val="100000"/>
                  </a:lnSpc>
                  <a:spcBef>
                    <a:spcPts val="499"/>
                  </a:spcBef>
                  <a:buClr>
                    <a:srgbClr val="ffff00"/>
                  </a:buClr>
                  <a:buFont typeface="Comic Sans MS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Comic Sans MS"/>
                  </a:rPr>
                  <a:t>Documents and Document Links</a:t>
                </a:r>
                <a:endParaRPr b="0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9440" y="380880"/>
            <a:ext cx="89582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553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7080" y="254160"/>
            <a:ext cx="8889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1440" y="582480"/>
            <a:ext cx="860112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odelling by Non-Expert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odelling is difficul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Our approach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Instantiate rather than defin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Careful design of the ontology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Domain-Specific Terminology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Modularity/Minimal Definition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Organizational Aspect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Co-operation rather than competition.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Benefits outweigh costs. 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Compatibility with organizational work practices. 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onclusion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4440" y="1285920"/>
            <a:ext cx="799956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mprehensive suite of technologies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Languages, tools, server technology, etc..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Holistic Approach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249"/>
              </a:spcBef>
              <a:spcAft>
                <a:spcPts val="499"/>
              </a:spcAft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We look at all facets of the problem: users, technology, organizational processes, learning theories.…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pproach very promising...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249"/>
              </a:spcBef>
              <a:spcAft>
                <a:spcPts val="499"/>
              </a:spcAft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8-10 ongoing projects with industrial and governmental organizations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URLs: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2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http:/kmi.open.ac.uk/people/motta,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2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http:/webonto.open.ac.u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2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http:/kmi.open.ac.uk/knowledge-modelling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Example: Knowledge Perspective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on Digital Librari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08120" y="1681200"/>
            <a:ext cx="7267320" cy="5176800"/>
            <a:chOff x="708120" y="1681200"/>
            <a:chExt cx="7267320" cy="51768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708120" y="2359080"/>
              <a:ext cx="118404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6791400" y="1770120"/>
              <a:ext cx="118404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6626160" y="3294000"/>
              <a:ext cx="118440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6753240" y="4957920"/>
              <a:ext cx="118404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flipV="1">
              <a:off x="1909800" y="2440080"/>
              <a:ext cx="695160" cy="331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66880" y="3440160"/>
              <a:ext cx="698400" cy="1278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95560" y="3948120"/>
              <a:ext cx="825480" cy="1092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040" y="4329360"/>
              <a:ext cx="825480" cy="1092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64040" y="2411640"/>
              <a:ext cx="825480" cy="1092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92520" y="2563920"/>
              <a:ext cx="1104840" cy="1015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16200" y="5040360"/>
              <a:ext cx="990720" cy="851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022640" y="5840640"/>
              <a:ext cx="64764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921120" y="3655800"/>
              <a:ext cx="914400" cy="304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877000" y="2094120"/>
              <a:ext cx="939600" cy="241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5724360" y="5547960"/>
              <a:ext cx="939960" cy="2415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705120" y="4125960"/>
              <a:ext cx="1181160" cy="698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692520" y="2246400"/>
              <a:ext cx="1092240" cy="139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43280" y="2297160"/>
              <a:ext cx="2870280" cy="1206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70360" y="3757680"/>
              <a:ext cx="2882880" cy="1473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09800" y="3033720"/>
              <a:ext cx="2786040" cy="2298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51320" y="4672080"/>
              <a:ext cx="3238200" cy="55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60440" y="3440160"/>
              <a:ext cx="1494000" cy="2954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4657680" y="1731960"/>
              <a:ext cx="118440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6"/>
            <a:stretch/>
          </p:blipFill>
          <p:spPr>
            <a:xfrm>
              <a:off x="4898880" y="3179880"/>
              <a:ext cx="118440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7"/>
            <a:stretch/>
          </p:blipFill>
          <p:spPr>
            <a:xfrm>
              <a:off x="4683240" y="5085000"/>
              <a:ext cx="118404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8"/>
            <a:stretch/>
          </p:blipFill>
          <p:spPr>
            <a:xfrm>
              <a:off x="2600280" y="1681200"/>
              <a:ext cx="118440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9"/>
            <a:stretch/>
          </p:blipFill>
          <p:spPr>
            <a:xfrm>
              <a:off x="2523960" y="4475160"/>
              <a:ext cx="118440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10"/>
            <a:stretch/>
          </p:blipFill>
          <p:spPr>
            <a:xfrm>
              <a:off x="2854440" y="5783400"/>
              <a:ext cx="118404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11"/>
            <a:stretch/>
          </p:blipFill>
          <p:spPr>
            <a:xfrm>
              <a:off x="2752560" y="3154320"/>
              <a:ext cx="1184400" cy="107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urrent Support for Scholarly Task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Bibliographic links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Keyword Search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ubject-based browsing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152280"/>
            <a:ext cx="883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0020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spcAft>
                <a:spcPts val="799"/>
              </a:spcAft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enomena of interest to scholar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Who’s building on the ideas in this paper?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Who’s challenged this paper?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as anyone proposed a similar solution but from a different theoretical perspective?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re there groups building on theory T, but who contradict each other?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s there any software which tackles problem P?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What impact did Language L have?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re there distinctive theoretical perspectives on problem P?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cholarly Ontologies Projec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Use scenario: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esearchers submit claims about their documents to a digital library internet server: key contributions and connections to the literature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Ser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intains model of the literature network, and  provides intelligent search, automated linking, structural analysis, agents, concept maps..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320" y="1600200"/>
            <a:ext cx="8991360" cy="5257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wards an extendable ontology for scholarly claims and relation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676520"/>
          <a:ext cx="8763120" cy="504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763120" cy="50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very assertion is a claim,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wned by an author,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pen to contest.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claim-structure" descr=""/>
          <p:cNvPicPr/>
          <p:nvPr/>
        </p:nvPicPr>
        <p:blipFill>
          <a:blip r:embed="rId1"/>
          <a:stretch/>
        </p:blipFill>
        <p:spPr>
          <a:xfrm>
            <a:off x="990720" y="2247840"/>
            <a:ext cx="7086600" cy="3314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2280" y="594360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undamentally perspectiv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Knowledge Level: Interpretation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intellectual lineage of idea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impact of idea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erspectives/schools of though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parallel development of similar idea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consistencies/contradiction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tructural similarities in modes of argumentatio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03:25Z</dcterms:created>
  <dc:creator>Enrico Motta</dc:creator>
  <dc:description/>
  <dc:language>en-US</dc:language>
  <cp:lastModifiedBy>Enrico Motta</cp:lastModifiedBy>
  <dcterms:modified xsi:type="dcterms:W3CDTF">2000-04-13T15:22:03Z</dcterms:modified>
  <cp:revision>102</cp:revision>
  <dc:subject/>
  <dc:title>Knowledge Modelling Technologies</dc:title>
</cp:coreProperties>
</file>